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jpeg" ContentType="image/jpeg"/>
  <Override PartName="/ppt/media/image22.gif" ContentType="image/gif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B57-F927-40A7-B056-E313890A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29C-A3D9-4D96-8708-B5EB3D34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1E5-CFD7-47AD-BE1F-A278C5EF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6C1-8F02-4A0C-AE07-273C89A1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3B9-5319-4082-8A35-7108F87E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981-9853-4990-9E4B-8FD53CC3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77D-857F-4F3E-8EC4-190653D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BD8-EBBA-4D78-A1A4-6203450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4A0-1364-4075-BA54-451367D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12F-3E36-49AA-A995-9A668A0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72F-C1E1-4641-9A63-63E1E2CE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E3B-8F3E-4081-B009-927BA1F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D046-3A47-4480-AA4E-064C8975C7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3720" y="2057400"/>
            <a:ext cx="4572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什么是八荣八耻</a:t>
            </a: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是谁提出</a:t>
            </a: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9152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2480" y="1371600"/>
            <a:ext cx="58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荣耻之七是，以遵纪守法为荣、以违法乱纪为耻。对人民来说，唯一的权力是法律。在一个法治国家，人人都应敬畏法律，视法律为神圣的准则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7400" y="917640"/>
            <a:ext cx="567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荣耻之八是，以艰苦奋斗为荣、以骄奢淫逸为耻。居安思危，戒奢以俭；以俭立名，以侈自败；金玉满堂，莫之能守；富贵而骄，自遗其咎；历览前贤国与家，成由勤俭破由奢。尽管小康近在眼前，我们依旧不能忘了“以俭入奢易，以奢入俭难；勤俭建国家，永久是真言”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3200"/>
            <a:ext cx="82296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根据下面的图片，请你谈谈自己的看法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486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33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一位居民拧紧正在滴水的水龙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邻居孩子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南郑州火车站售票大厅内，旅客在一米线外排队等待购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江苏南京“全国医药保健品交易会”现场的地面上撒满了被丢弃的宣传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宁夏银川市兴庆区新华街上的盲道被自行车、摩托车随意占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东济南师范附属小学的“城管小卫士” 在清理街头“牛皮癣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山东省沂南县依汶镇后峪子村的村干部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的王西美（左一）交谈，了解她的两个儿媳孝敬公婆的情况，二儿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婆婆的夸赞下羞得脸绯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1523880"/>
            <a:ext cx="6400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八荣八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热爱祖国为荣，以危害祖国为耻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服务人民为荣，以背离人民为耻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崇尚科学为荣，以愚昧无知为耻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辛勤劳动为荣，以好逸恶劳为耻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团结互助为荣，以损人利己为耻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诚实守信为荣，以见利忘义为耻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遵纪守法为荣，以违法乱纪为耻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艰苦奋斗为荣，以骄奢淫逸为耻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        ——胡锦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京天安门前的地下通道，一名小朋友在大人的指导下把饮料盒放进垃圾箱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90720" y="419112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牢记“八荣八耻”，我们的道德准则自然明了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1676520"/>
            <a:ext cx="358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人云：不知荣辱乃不能成人。胡锦涛总书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在看望政协委员时提出以“八荣八耻”为具体内容的荣辱观，推陈出新，为我国公民道德建设树起了新的标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560" y="1447920"/>
            <a:ext cx="164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八耻八荣解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 rot="10800000">
            <a:off x="606240" y="1065600"/>
            <a:ext cx="79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荣耻之一是，坚持以热爱祖国为荣、以危害祖国为耻。国家不强大，个人永难强大，就像树苗没有一片广阔的天、没有肥沃的土，永难长成参天大树。爱国就是爱自己，“能够献身于自己祖国的事业，这是最光荣不过的事情了。”祖国，我们贡献给她的越多，我们的生活就越光辉，越广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 rot="10800000">
            <a:off x="2209680" y="106632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荣耻之二是，以服务人民为荣、以背离人民为耻。不管是孟子的“老吾老以及人之老，幼吾幼以及人之幼”，还是孟德斯鸠的“个人利益永远包括在公共利益之中”，都是以服务人民为荣。连大诗人裴多菲都坚信：谁是诗人，谁就得千辛万苦地和人民在一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838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荣耻之三是，以崇尚科学为荣、以愚昧无知为耻。科学技术是第一生产力，当代竞争，很大程度上就是科学精神的竞争。伽利略说：“我出卖了我的职业，科学行列里就不容许我的存在。”这是献身科学。居里夫人说：“我发现了镭，但不是创造了它，因此它不属于我个人，它是全人类的财产。”这是信奉科学。贝多芬说：“人们不可因为孩子的死亡，就放弃生育。”这是把科学的精神转化为现实的理性生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3808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荣耻之四是，以辛勤劳动为荣、以好逸恶劳为耻。人起源于劳动，春蚕到死丝方尽，蜡炬成灰泪始干，高智慧的人类必须超过“春蚕”和“蜡炬”。鲁迅说得好，“只要能培一朵花，就不妨化做会朽的腐草”———只有劳动，才能有益于人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23623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荣耻之四是，以辛勤劳动为荣、以好逸恶劳为耻。人起源于劳动，春蚕到死丝方尽，蜡炬成灰泪始干，高智慧的人类必须超过“春蚕”和“蜡炬”。鲁迅说得好，“只要能培一朵花，就不妨化做会朽的腐草”———只有劳动，才能有益于人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66880" y="914400"/>
            <a:ext cx="367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荣耻之六是，以诚实守信为荣、以见利忘义为耻。从荀子的“先义而后利者荣、先利而后义者辱”，到苏轼的“苟非吾之所有，虽一毫而莫取”，都说明了诚信是多么重要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31:57Z</dcterms:modified>
  <cp:revision>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